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18FD-C2D4-426A-99D0-BCFF4DB11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lifetime-fitness.ca/pages/meet-our-trainers/trainer-tips--nutritiona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bioprop/glucos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course1.winona.edu/sberg/241f08/Lec-note/Biochem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mansfield.osu.edu/~sabedon/biol1020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, maltose (malt sugar used in making beer), lactose (in milk)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merthehammer.com/2010/12/04/understanding-ingredient-labels-todays-tip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ola bars health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thyeatingnaturally.wordpress.com/2009/02/11/the-truth-about-granola-ba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thyeatingnaturally.wordpress.com/2009/02/11/the-truth-about-granola-ba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yellowtang.org/chemistry.php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herdaily.com/health/892/the-effects-of-food-additives-and-preservative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omepage.smc.edu/wissmann_paul/anatomy2textbook/phospholipid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mpseysresolutionfitness.blogspot.ca/2010/09/trans-fat-truth-myth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edicine-opera.com/2009/07/trans-fats-big-brother-and-sloppy-scienc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upplementquality.com/news/fatty_acid_struct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teach.ubc.ca/Bio-industry/Inex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micro.magnet.fsu.edu/cells/plasmamembrane/plasmamembran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s from: http://en.wikipedia.org/wiki/File:Cholesterol_structure.png and http://commons.wikimedia.org/wiki/File:Testosterone_structure.pn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igiwax.com/wax-basics/overview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http://www.britannica.co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800mainstreet.com/5/0005-009-polar-molecul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hbrainsandbeauty.com/academic-discussions/chemistry-academic-discussions/functional-groups-429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xyl - in alcohols, carbohydrates, steroids, some amino ac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ate - nucleic acids, ATP, som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yl - in ketones &amp; aldehy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hydryl - some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 - in amino acids, fatty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- in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9D5-71AB-4770-BE1E-C7F1A2FE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C0F-31EC-4CD3-8174-6A3195A3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5A9-22EE-43AD-A003-A7AAACD4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BA09-5342-47CC-9EC6-BC6D62DB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4DF-C64D-4B32-A2F2-F4AADCBB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932-80D8-4D0E-8C3E-91FA15AC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8BC-A6CA-4E93-9F1B-25B57545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839-17A4-413A-A815-35CC936A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FDE-8442-46C5-A886-032821C3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7BA-EEB6-4CB8-9C1A-622028AD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229-0FB4-471D-BCBC-92160DE7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D56-6749-4AFF-89FD-B6FCCF99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8F0C-EB83-425C-9BCD-BC3503530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yDnnD3fMaU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xF_LK9pnL0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I4U - 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hydrates &amp; 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hydrates are the most important energy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cannot synthesize carbohydrates;  they must be consumed in plant materi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652840"/>
            <a:ext cx="38098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ugars in straight chain or r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H:O usually in 1:2:1 ratio (glucose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 fructose, galactose, ribose, deoxyrib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2062080"/>
            <a:ext cx="3809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onosaccharides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, glucose, fructose, and gala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944960" y="1981080"/>
            <a:ext cx="32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molecules made from 2 single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d by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hydration synthesis (condensa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UyDnnD3fM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uga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62120" y="1981080"/>
            <a:ext cx="401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24040" y="609480"/>
            <a:ext cx="569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2400" y="609480"/>
            <a:ext cx="7637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y” Clif bars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2838600"/>
            <a:ext cx="77724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igosaccha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horter-chain sugars with 3-10 single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er chain carbohydrates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 starch, cellulose, glycogen, chi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43160" y="1981080"/>
            <a:ext cx="465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the chemistry of compounds produced by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 organic compounds contain carbon and hydrogen, and usually other elements such as nitrogen, sulfur and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rption of vita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05200" y="1981080"/>
            <a:ext cx="369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glyce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type of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erol + 3 fatty acid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ed and unsaturated fatty acid ch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3xF_LK9pn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2446200"/>
            <a:ext cx="38098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Fa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70080" y="1981080"/>
            <a:ext cx="480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Fa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38560" y="1981080"/>
            <a:ext cx="446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ega 3 &amp; 6 Fatty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2021040"/>
            <a:ext cx="77724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omponent of cell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glycerol + 2 fatty acid chains + 1 phosphat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end is polar and water-soluble, fatty acid end is non-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2216160"/>
            <a:ext cx="38098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640" y="1981080"/>
            <a:ext cx="757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oids (Stero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based multiple-rin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hormones such as estrogen and testo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2116080"/>
            <a:ext cx="3809880" cy="170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18040" y="4114800"/>
            <a:ext cx="3070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chain fatty acids linked to alcohols/carbon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as water-proof coating for plant leaves, animal feath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800100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 vs. Non-P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ar polarity is determin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ty of bonds within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y of molec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arity of molecules or functional groups determines characteristics such as solu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72400" y="2286000"/>
            <a:ext cx="933480" cy="67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705720" y="3124080"/>
            <a:ext cx="12286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744480"/>
            <a:ext cx="77724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-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70000" y="1981080"/>
            <a:ext cx="680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clusters of atoms attached to the carbon backb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groups react in characteristic ways, giving chemical properties to macromolecules, and are involved in most reactions in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96960" y="1981080"/>
            <a:ext cx="4148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molec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large molecules that are often composed of repeating sub-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biologically important macromolecul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hyd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7:25Z</dcterms:created>
  <dc:creator>rubina khan</dc:creator>
  <dc:description/>
  <dc:language>en-US</dc:language>
  <cp:lastModifiedBy>rubina khan</cp:lastModifiedBy>
  <dcterms:modified xsi:type="dcterms:W3CDTF">2013-02-13T14:33:29Z</dcterms:modified>
  <cp:revision>138</cp:revision>
  <dc:subject/>
  <dc:title>Organic Chemistry</dc:title>
</cp:coreProperties>
</file>